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05B-EB06-4E8B-B079-944455B5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9B6-CE79-4949-B783-098EC287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946-9500-43E7-8BBD-73432BED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0D2-9FAE-406C-A39D-549283E1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027-0B70-4F9E-B9E1-941C79A1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252-45D5-410C-9D41-CF42A776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118-9C47-422F-A3E4-53479EA8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AA9-D96C-4C73-B59E-5D3195CC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5E6-B5AF-4973-8FB1-937295F8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FED-01E5-4CA3-9D35-CEF70710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6CB-10E6-469B-BB81-8962DA4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D7B-DD0F-4A8E-8C68-C4DD4997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AC2D95-FA26-4E6D-BF47-F1FCC34B37D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025880" cy="372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Bot 2.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41264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čebná pomôcka pre záujemcov o robot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9500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vid Gustafík a Pavol Krasňanský, v spolupráci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96000" y="6021360"/>
            <a:ext cx="2808360" cy="36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adiaca elektronik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zog celého zariad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lá kompaktná doska s procesorom A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á na sebe univerzálnu dosku, procesor, BlueTooth, spínanie a ovládanie servomotorov, pripojenia viacerých senzorov, prípojku na vyšší systé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6659640" cy="3803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2997360"/>
            <a:ext cx="2016000" cy="3600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4292640"/>
            <a:ext cx="1368360" cy="1297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860640"/>
            <a:ext cx="1368360" cy="1513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789360"/>
            <a:ext cx="649440" cy="2232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2924280"/>
            <a:ext cx="1297080" cy="576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2924280"/>
            <a:ext cx="1728720" cy="792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3860640"/>
            <a:ext cx="505080" cy="136872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5013360"/>
            <a:ext cx="647640" cy="1368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734080"/>
            <a:ext cx="720720" cy="64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6320" y="866880"/>
            <a:ext cx="1940040" cy="330120"/>
          </a:xfrm>
          <a:prstGeom prst="borderCallout1">
            <a:avLst>
              <a:gd name="adj1" fmla="val 18750"/>
              <a:gd name="adj2" fmla="val -8333"/>
              <a:gd name="adj3" fmla="val 885097"/>
              <a:gd name="adj4" fmla="val -37398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x tlačít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989000"/>
            <a:ext cx="1939680" cy="330480"/>
          </a:xfrm>
          <a:prstGeom prst="borderCallout1">
            <a:avLst>
              <a:gd name="adj1" fmla="val 18750"/>
              <a:gd name="adj2" fmla="val -8333"/>
              <a:gd name="adj3" fmla="val 842305"/>
              <a:gd name="adj4" fmla="val -37726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907920"/>
            <a:ext cx="4176720" cy="330480"/>
          </a:xfrm>
          <a:prstGeom prst="borderCallout1">
            <a:avLst>
              <a:gd name="adj1" fmla="val 18750"/>
              <a:gd name="adj2" fmla="val -8333"/>
              <a:gd name="adj3" fmla="val 696634"/>
              <a:gd name="adj4" fmla="val -26416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pojenie vyššieho systém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413000"/>
            <a:ext cx="3887640" cy="431640"/>
          </a:xfrm>
          <a:prstGeom prst="borderCallout1">
            <a:avLst>
              <a:gd name="adj1" fmla="val 18750"/>
              <a:gd name="adj2" fmla="val -8333"/>
              <a:gd name="adj3" fmla="val 398527"/>
              <a:gd name="adj4" fmla="val -9268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pojenie nárazníkov a 4x 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060640"/>
            <a:ext cx="1944720" cy="647640"/>
          </a:xfrm>
          <a:prstGeom prst="borderCallout1">
            <a:avLst>
              <a:gd name="adj1" fmla="val 18750"/>
              <a:gd name="adj2" fmla="val -8333"/>
              <a:gd name="adj3" fmla="val 491175"/>
              <a:gd name="adj4" fmla="val 112652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7x Analógové 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2565360"/>
            <a:ext cx="1940040" cy="330120"/>
          </a:xfrm>
          <a:prstGeom prst="borderCallout1">
            <a:avLst>
              <a:gd name="adj1" fmla="val 18750"/>
              <a:gd name="adj2" fmla="val -8333"/>
              <a:gd name="adj3" fmla="val 501444"/>
              <a:gd name="adj4" fmla="val -45416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3284640"/>
            <a:ext cx="1940040" cy="3301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20458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x ser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5373720"/>
            <a:ext cx="1939680" cy="330120"/>
          </a:xfrm>
          <a:prstGeom prst="borderCallout1">
            <a:avLst>
              <a:gd name="adj1" fmla="val 18750"/>
              <a:gd name="adj2" fmla="val -8333"/>
              <a:gd name="adj3" fmla="val 214902"/>
              <a:gd name="adj4" fmla="val -154171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SP rozhra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557360"/>
            <a:ext cx="2156040" cy="330120"/>
          </a:xfrm>
          <a:prstGeom prst="borderCallout1">
            <a:avLst>
              <a:gd name="adj1" fmla="val 18750"/>
              <a:gd name="adj2" fmla="val -8333"/>
              <a:gd name="adj3" fmla="val 920671"/>
              <a:gd name="adj4" fmla="val -17967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verzálna do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Univerzálna dosk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ôležitá časť robota – umožňuje študentom tvoriť vlastné zapojenia na robota, prípadne pripájať neštandardné senzory – na plyn, svetlo, tlak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e na ňu vyved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8x digitálne I/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7x analógových vstup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x S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x I2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x sériová lin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x prerušeni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+5V, 3.3V, G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608472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enzor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172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sledovanie čiary: 2x CNY70 na samostatných doskách – kvôli jednoduchšiemu umiestneni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940360" y="4560840"/>
            <a:ext cx="2808360" cy="2297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560840"/>
            <a:ext cx="2808360" cy="2297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87640" y="4083120"/>
            <a:ext cx="2808360" cy="2774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06064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árazník: 4x mikrospínače spojené s kruhom ktorý obopína celého robota zo všetkých strán – možnosť zistenia smeru náraz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6864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mapovanie prostredia – mechanické riešenie pre 4x GP2Dxx senz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0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Komunikác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ueTooth – dosah 3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ytvorí na PC štandardný sériový port na ktorý sa možno napojiť akýmkoľvek terminálom, alebo špeciálnou aplikáci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ériová lin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tokol kompatibilný s tým, čo je použitý v Robotic Labe na FEI ST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Firmware a softwa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rmware: Jednoduchý framework na ktorom je možné ďalej stavať, napísaný v C pre AV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šetky nástroje použité sú zadarmo ( kompilátor, simulátor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ftware: Akýkoľvek terminálový program, alebo užívateľská apliká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Parametre Sbot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9280" y="1125360"/>
            <a:ext cx="8508960" cy="5550120"/>
            <a:chOff x="179280" y="1125360"/>
            <a:chExt cx="8508960" cy="5550120"/>
          </a:xfrm>
        </p:grpSpPr>
        <p:sp>
          <p:nvSpPr>
            <p:cNvPr id="130" name=""/>
            <p:cNvSpPr/>
            <p:nvPr/>
          </p:nvSpPr>
          <p:spPr>
            <a:xfrm>
              <a:off x="3981600" y="630864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, assembl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9280" y="630864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gramovací jazy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81600" y="594360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x LED dióda, 3x tlačítk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280" y="594360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é užívateľské zariaden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600" y="5270400"/>
              <a:ext cx="4705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P2Dxx senzory na vzdialenosť, viac senzorov na čiar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9280" y="5270400"/>
              <a:ext cx="38023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Ďalšie pripojiteľné senzory bez akejkoľvek úpravy robo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81600" y="4595760"/>
              <a:ext cx="47052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x Senzor na čiaru, nárazník na zistenie so štyrmi možnými smermi náraz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9280" y="4595760"/>
              <a:ext cx="3802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zory v základnej výb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81600" y="423072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280" y="423072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sah BlueToot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81600" y="386568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SP, bootload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280" y="386568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gramovanie proceso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81600" y="3500280"/>
              <a:ext cx="470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TMega12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9280" y="3500280"/>
              <a:ext cx="3802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lavný proces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81600" y="313524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,156m/s = 0,5625km/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9280" y="313524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ýchlos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81600" y="2495520"/>
              <a:ext cx="4705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x modelárske servomotory, max. pripojiteľných serv: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9280" y="2495520"/>
              <a:ext cx="3802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h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81600" y="213048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96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9280" y="213048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motnosť so zdroj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81600" y="176544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x 1,2V NiMH/NiCD akumulá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9280" y="176544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pájani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81600" y="1125360"/>
              <a:ext cx="4705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0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9280" y="1125360"/>
              <a:ext cx="3802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emer robota s osadeným nárazník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9280" y="176544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1600" y="1125360"/>
              <a:ext cx="1440" cy="554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9280" y="213048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9280" y="249552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280" y="313524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280" y="350028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280" y="386568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280" y="423072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9280" y="459576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9280" y="527040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9280" y="594360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9280" y="630864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9280" y="112536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9280" y="1125360"/>
              <a:ext cx="1800" cy="554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86800" y="1125360"/>
              <a:ext cx="1440" cy="554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9280" y="667368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742000" cy="3197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00000" y="450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k sú nejaké otázky, prosím, pýtajte 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ieľ projektu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idať nový systém do RoboticLabu na FEI v spolupráci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ytvoriť rozšíriteľnú učebnú pomôcku z bežne dostupných komponent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hrať s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2066760" cy="26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Koncepcia a čo s tý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ostatné zariadenie na skúšanie si algoritmov, učenie sa základných princípov robotiky – detekcia a obídenie prekážky, sledovanie či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dvozok pre vyšší systém – na robota možno napojiť napr. jednodoskový počítač s Linuxom a kamerou, cez ktorý je možné skúšať pokročilejšie princípy robotiky – rozpoznávanie obrazu, umelá inteligencia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ez BlueTooth na diaľku riadený robot, vhodný napr. do Robotic Lab na FEI S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Mechanik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lavná časť: Len jeden kus hliníku – ľahko a lacno vyrobiteľné dvoma operáciami, všetko ostatné – štandardné di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statok montážnych otvorov na ďalšie rozšírenia ( senzory, iná mechanika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456000" cy="282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24360" y="3789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ednoduchá montáž – stačí len zoskrutkovať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Ukážka montáž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lavné čast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236760"/>
            <a:ext cx="4427640" cy="3621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Poh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žný trojbodový systém – jeden pasívny oporný bod, dve kolies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tory – bežné modelárske servomo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tí oporný bod – záslepka na skrut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560840"/>
            <a:ext cx="2808360" cy="2297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35640" y="4560840"/>
            <a:ext cx="280836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loková schéma robot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3068640"/>
            <a:ext cx="3384720" cy="2016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3068640"/>
            <a:ext cx="1800360" cy="863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rvomo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32360" y="2349360"/>
            <a:ext cx="1800360" cy="64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4724280"/>
            <a:ext cx="1800360" cy="792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Čiar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nz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5589720"/>
            <a:ext cx="1800360" cy="100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árazní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4005360"/>
            <a:ext cx="1800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nz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zdiale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950080"/>
            <a:ext cx="1800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té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557360"/>
            <a:ext cx="2519280" cy="647640"/>
          </a:xfrm>
          <a:prstGeom prst="rect">
            <a:avLst/>
          </a:prstGeom>
          <a:solidFill>
            <a:srgbClr val="003399"/>
          </a:solidFill>
          <a:ln w="25560">
            <a:solidFill>
              <a:srgbClr val="f0e5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yšší systé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3429000"/>
            <a:ext cx="129672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221000"/>
            <a:ext cx="1512720" cy="64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verzál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4221000"/>
            <a:ext cx="1584360" cy="64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ína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rvomotor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3429000"/>
            <a:ext cx="1800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/O na dos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06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iadiaca do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3429000"/>
            <a:ext cx="1368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562200" y="429264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562200" y="479736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562200" y="5011560"/>
            <a:ext cx="1371600" cy="795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564000" y="2635200"/>
            <a:ext cx="1368360" cy="434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276640"/>
            <a:ext cx="1440" cy="72072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403280" y="5083200"/>
            <a:ext cx="1800" cy="86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1557360"/>
            <a:ext cx="2376360" cy="719280"/>
          </a:xfrm>
          <a:prstGeom prst="rect">
            <a:avLst/>
          </a:prstGeom>
          <a:solidFill>
            <a:srgbClr val="003399"/>
          </a:solidFill>
          <a:ln w="25560">
            <a:solidFill>
              <a:srgbClr val="f0e5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Študentská apliká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 univerzálnej dos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4920" y="2276640"/>
            <a:ext cx="1800" cy="72072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372360" y="1626840"/>
            <a:ext cx="144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372360" y="1410840"/>
            <a:ext cx="144360" cy="21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372360" y="1410840"/>
            <a:ext cx="1440" cy="21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226200" y="1410840"/>
            <a:ext cx="147600" cy="21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Napájani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 x AA batérie, môžu byť nabíjateľné NiMH, Ni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miestnené na spodku robota, zabezpečujú rovnováh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43280" y="3794040"/>
            <a:ext cx="3744720" cy="30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</dc:creator>
  <dc:description/>
  <dc:language>en-US</dc:language>
  <cp:lastModifiedBy>D</cp:lastModifiedBy>
  <cp:revision>0</cp:revision>
  <dc:subject/>
  <dc:title>SBot 2.0</dc:title>
</cp:coreProperties>
</file>